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74E6-834F-40F5-B1D2-66BCA097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48D1-4A25-4074-B482-EB181CCDE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4021-CAD4-48C8-858C-AF3453B30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FDD-6ED0-4C6F-9A6F-C46B11A3D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7A8C9-FBD8-4B91-A15A-5E395CC4E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4AA5-64BD-4BD6-A491-BAC7F1156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FEEEC-E6DE-4C87-8F4B-6F936B27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89DE-A822-44E5-9D79-2E6B3161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A09C-B693-4BF7-ADBB-F4F4E7FB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BE310-0C76-46E8-8863-CCECCC792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86FA-E4FA-464A-BE04-B6060BEC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7999-A59A-4A6B-A89F-BB5BD406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082F3-77AF-4AF8-AB3D-F513FC53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A4E1-E149-4EB7-ACA5-95C13C08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8D5A-0905-4C0C-9353-D6927146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66FF-892F-4AD3-993F-2AAFE8AB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461E-D10C-4B7A-B7F1-83C1EE9C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1775-381B-4626-919A-D9FC1E2F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5690-7BAF-4FE3-86D3-702080B19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B402-5DE9-4459-B442-87CA941A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99A7-A6DA-4204-89D7-2D5B6983F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EB20-B97E-491D-9D88-47D4E61B9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4AFE-C0B5-46F0-A88E-8FEF7773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1827-0AD3-4E14-B568-F23C15E6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FCDF6-CDCE-4E98-8EF8-9B7B52FBBDB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DAA5A-7A77-4918-8B24-ED4591ED5C8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6666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6666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66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762120"/>
            <a:ext cx="800100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Book Antiqua"/>
              </a:rPr>
              <a:t>Lorraine Hansberry</a:t>
            </a:r>
            <a:br>
              <a:rPr sz="66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160" y="4723920"/>
            <a:ext cx="83055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0" spc="-1" strike="noStrike" u="sng">
                <a:solidFill>
                  <a:srgbClr val="6600cc"/>
                </a:solidFill>
                <a:uFillTx/>
                <a:latin typeface="Book Antiqua"/>
              </a:rPr>
              <a:t>A Raisin In The Sun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2174760"/>
            <a:ext cx="45720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Hansberry was born in 1930, the youngest of four children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o Carl &amp; Nannie Hansberr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She was born &amp; raised in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the Southside, Chicago, Illinoi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Her parents were social activists; they challenged discriminating Jim Crow Law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Lorraine too was a social activist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237280" y="1981080"/>
            <a:ext cx="3525840" cy="44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06520" y="1828800"/>
            <a:ext cx="3173400" cy="4683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114800" y="1676520"/>
            <a:ext cx="4191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14800" y="1752480"/>
            <a:ext cx="472428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attended a segregated public high school, then attended the University of Wisconsi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married Robert Nemiroff, a white Jewish songwrit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met him on a picket line protesting the exclusion of black athletes from university spor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wrote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A Raisin in the S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1957; it opened on Broadway in 1959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800" spc="-1" strike="noStrike">
                <a:solidFill>
                  <a:srgbClr val="ffffff"/>
                </a:solidFill>
                <a:latin typeface="Arial"/>
              </a:rPr>
              <a:t>Civil Rights Movement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98440"/>
            <a:ext cx="7848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ant Figur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Langston Hughe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Dr. Martin Luther King, Jr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Malcolm X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524"/>
              </a:spcBef>
              <a:buClr>
                <a:srgbClr val="6666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W.E.B. DuBois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al Activism, in which Lorraine Hansberry was a part, included speeches, writing, and prote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i.e. sit-ins, marches, and anti-segregation ralli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638680" y="1905120"/>
            <a:ext cx="19414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1957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:   </a:t>
            </a: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A Raisin in the Su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1959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:   </a:t>
            </a:r>
            <a:r>
              <a:rPr b="0" i="1" lang="en-US" sz="2800" spc="-1" strike="noStrike">
                <a:solidFill>
                  <a:srgbClr val="ffffcc"/>
                </a:solidFill>
                <a:latin typeface="Book Antiqua"/>
              </a:rPr>
              <a:t>A Raisin in the Sun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hits Broadwa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          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Wins </a:t>
            </a: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NY Drama Critics Circle Award: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          “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Best Play of the Year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1960:   She writes a screenplay of the pla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1961:   Wins </a:t>
            </a:r>
            <a:r>
              <a:rPr b="1" lang="en-US" sz="2800" spc="-1" strike="noStrike">
                <a:solidFill>
                  <a:srgbClr val="ffffcc"/>
                </a:solidFill>
                <a:latin typeface="Book Antiqua"/>
              </a:rPr>
              <a:t>Cannes Film Festival</a:t>
            </a:r>
            <a:r>
              <a:rPr b="0" lang="en-US" sz="2800" spc="-1" strike="noStrike">
                <a:solidFill>
                  <a:srgbClr val="ffffcc"/>
                </a:solidFill>
                <a:latin typeface="Book Antiqua"/>
              </a:rPr>
              <a:t> award</a:t>
            </a:r>
            <a:r>
              <a:rPr b="0" lang="en-US" sz="2000" spc="-1" strike="noStrike">
                <a:solidFill>
                  <a:srgbClr val="ffffcc"/>
                </a:solidFill>
                <a:latin typeface="Book Antiqu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ffff"/>
                </a:solidFill>
                <a:latin typeface="Arial"/>
              </a:rPr>
              <a:t>About the Play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rraine Hansberry’s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A Raisin in the Su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as influenced generations of Americans.  The play inspired millions to confront issues of civil rights, segregation, violent racism, and whether or not the American dream was even possibl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sberry died of cancer on January 12, 1965, at the age of thirty-four. However, her memory lives on in how she lived her life and through her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traordinary body of work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which remains relevant even today.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210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90476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1973,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isin in the Su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as adapted into a musical, entitled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is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Rais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won th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ny Awar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 best musical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ran on Broadway for three yea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usical was revived in 198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724280" y="2209680"/>
            <a:ext cx="4038840" cy="389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2T04:38:51Z</dcterms:created>
  <dc:creator>Melanie Young</dc:creator>
  <dc:description/>
  <dc:language>en-US</dc:language>
  <cp:lastModifiedBy>RVCSchools</cp:lastModifiedBy>
  <dcterms:modified xsi:type="dcterms:W3CDTF">2010-03-03T13:18:50Z</dcterms:modified>
  <cp:revision>22</cp:revision>
  <dc:subject/>
  <dc:title>Lorraine Hansberry</dc:title>
</cp:coreProperties>
</file>